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7.png" ContentType="image/pn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21.jpeg" ContentType="image/jpeg"/>
  <Override PartName="/ppt/media/image16.png" ContentType="image/png"/>
  <Override PartName="/ppt/media/image20.png" ContentType="image/png"/>
  <Override PartName="/ppt/media/image3.png" ContentType="image/png"/>
  <Override PartName="/ppt/media/image18.jpeg" ContentType="image/jpeg"/>
  <Override PartName="/ppt/media/image17.png" ContentType="image/png"/>
  <Override PartName="/ppt/media/image15.png" ContentType="image/png"/>
  <Override PartName="/ppt/media/image5.jpeg" ContentType="image/jpeg"/>
  <Override PartName="/ppt/media/image1.png" ContentType="image/png"/>
  <Override PartName="/ppt/media/image2.png" ContentType="image/png"/>
  <Override PartName="/ppt/media/image4.png" ContentType="image/png"/>
  <Override PartName="/ppt/media/image13.jpeg" ContentType="image/jpeg"/>
  <Override PartName="/ppt/media/image2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FED514-F0A9-4EED-A730-DB63DCBD185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145C62-552E-4777-B4D4-524781A0B0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E8C2C5-B472-4792-A375-799653B2E9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5BA182-E65E-4C18-892A-35DC247E25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9A032B-3F8C-457A-9445-56FF3BA492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278617-CD25-41D8-A6D8-01E814273B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6260D0-D0DD-4911-81A9-34E2DC9D9A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0E8C91-702C-4745-AF95-62D50E13D0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B4CE26-93C0-464D-876C-6D515493F1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2A3ED0-1DB1-4453-B470-ADA1B50004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7322A1-09E2-45C3-AF2B-4FB79FD0B7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9CDF-C1BF-476E-A296-BBC12658C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20CB-0852-49E6-9CB1-AA065CA48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2CDC-CEAE-4567-B51E-6E8E5AA84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777C-7CFB-4081-B7E6-7AD9DE4A1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8EFB4-D23C-4096-8CE0-0DB9FC080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F1034-0F92-4A1A-8DDA-A6F379A71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43DF7-84A8-4E0A-912B-E08E8566B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477D9-ADD1-4ACC-8999-1C8992CBD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A27B0-E715-4BB2-809B-C21BC7A6C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2EE37-5464-48A0-BB78-31DCF932C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90604-A548-4F7F-ADFF-83BC452C6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9E75-23B2-4BCD-8DAB-45546E25C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6B37C-5669-421F-9A98-3CB6C084B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1F050-CEF5-413F-9732-B3F904295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035A5-C562-4B21-9ECF-31CE706C6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B1969-3695-425B-A60D-E93C36563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E6355-E8D5-4F41-8F0F-DB2FD7DEF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0C6C5-7FAD-4340-8643-70C26DA8B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FBE05-D548-4E55-BA7C-E800D992C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F4807-0903-48CE-A457-DDB46DB74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C27AC-C110-435C-9EE6-04D160A3A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1F817-FC01-4576-AD63-72D7CEFC7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5E42-22AA-47F4-AD5B-B47E54D01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190BC-064B-4CD5-88ED-3DA092DAE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0F3AC-ED7E-4DF1-BE40-B96CF0339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E1685-63A1-48D0-AD41-8E70FD73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02F0D-D6E0-4C9C-97A5-68DA1BC3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69A11-4715-4A9A-B340-D3FA77B09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A1A8A-4C39-452A-836D-30ED307C5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E1F6F-1863-4923-A10D-DC4880C32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DFCAE-37EF-49C2-A567-DEC62435C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42047-CC10-4365-AB11-1C4BE07F2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60001-78FB-4C01-8F93-295A055AB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5860-8D2B-4BB2-957C-34F04EBC2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EBFA6-B795-415A-BBB4-28CC64ED1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F07BD-0A71-4425-8BBE-23EF5AD1E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8F19A-EF0B-4580-886E-ADAF40446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A19C2-A493-43B1-8DBC-C2D760F8F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E8FE2-3AED-4183-A144-C013BD58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CF98D-D712-4D4F-BEAE-F45E5BBE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A735A-85CE-47C3-9B46-10E14D240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56D02-E02E-4915-8CB2-44D8BFB6E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15D57-3C47-413E-883D-8513DA331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B09BD-3212-435B-BD5D-11DD2DB38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6635-B667-467B-A7DD-45DF2BBCC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D0E26B-2CC4-4F38-A367-5E60DCB81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539B8-CB87-46F5-8D59-605DB2031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28CFE-DA8D-4A50-BC38-25C2DD072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1B25C-B5F9-4227-A5D5-F7819CD4E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B73F84-7FEB-46F6-9F5E-4F0FCFF9C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0A2F0-5BB7-4174-93A7-139FF07F2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C75D4-6A6D-4D09-93A0-3EF1B4797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0FBF80-91BF-46FB-9133-A9BAD0CB7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84325-1785-4F03-AEFF-5BE58A669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5AAA0-DCC8-4E44-8008-C19FED0D9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0FED-B3E2-45AB-954A-86104D90B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C8203A-EFCC-4B85-9B55-214A7DC06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AADE28-21D3-4580-A633-2C3497CA4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CE2719-F130-4CFB-8D21-CF309C47B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A2B546-4F86-4825-A820-82DCDEC2A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6D1412-056C-4082-82A7-56C903189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FAAEDC-760F-4FFC-9F99-4470C64BA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8ECE2D-E705-42EC-A3EE-06B9AAE23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4CE924-06CD-4A64-AB4A-0091B2589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587FA1-9771-4233-A04E-92ADFFD7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A8C516-6008-4067-A9CC-3935BFD76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C2BC-FCEA-4351-B4F8-0D0839EAB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1F324E-B2F2-4112-A8EC-FC09B26B5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E98BE0-B303-4049-B5FD-695C9B52E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912A36-3374-41EC-B1D4-923743A40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D34838-102D-4FF7-8C77-78D895232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5B817D-C75B-4251-9CDC-688985DCC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C1924C-4D2F-4F19-8149-78F3B5A64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9266C9-0E0B-4BBC-86D3-94C24BE83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507E96-4B78-411A-BEC1-C9FE8F738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23B356-6A6D-4F0E-AECC-8F832BA98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8515C8-EA91-46F2-9498-A3DEEC55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2ABA-06A2-478E-8BC4-2B85E31F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134FC8-B66C-4295-856A-35FBE50B6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398974-8A80-4B08-92C2-F41D346E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13BEAA-1791-418C-B65B-CF37B90FE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4671D5-6A67-4938-B965-C70A62FC4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C86E22-0071-43C9-B07F-51A0E9053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667771-862F-4AC8-8353-0C63449F4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1061CC-5499-4143-BCAD-78C05E2E9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F41962-59E6-4319-B69F-240E18D24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086C83-A21E-4256-A1BF-CA8E5F14C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A3D4D1-4F5F-4AAE-BB0B-3A09C9731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D9FF-A3EE-49DA-9373-B98D5C669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970DAF-48B2-4A6C-9E1D-87BEF9012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FD16B8-ECEA-4789-A83C-27611CD1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E1F449-448F-4510-A39B-D7A785095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599684-70B5-492C-AE3D-37C4E400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105C4B-0F09-4D1B-98B9-0F20896B7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A23D1B-C738-410A-A879-D55982BE8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0ABAA4-7416-43D2-ADE5-548008A98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4E015B-D3DD-4E1E-B352-1B84ABCC62A3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F59C3C-FECB-4F79-A8D4-9383BBEAB38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13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0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F5984B-1961-4601-BAEA-A1EF33D136CC}" type="datetime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E87227-EB73-48DE-95C1-2C440002BCBE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4DF5E9-75B1-4B25-86E7-37F942A05982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FAFBA6-3274-447E-9C95-6D68EE7A9D8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B9BAFA-851F-4829-80C0-F1C07E285237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50977D-97C9-4A6A-BC2A-0DF68067D31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68C2C5-E035-42F3-B177-76BBDDEA529F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E0C4B2-E7CD-4F03-894F-5508C5635F1C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72B0FB-D20C-48E7-9A0A-53FDE0D10BF5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2D5397-A8A3-428B-AF22-C67A4CBA4668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50EEF0-5BFC-4466-8295-85A01A215051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8BC520-B3DE-4F66-BF7A-ED26167C2ED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6492A4-1FE5-4A9F-9A31-0A0C98895561}" type="datetime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6E9F7A-96C1-444E-956C-0B241ACDD08A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www.filibustercartoons.com/nikita.gif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archives.cnn.com/2000/US/03/31/cuba.boy.02/map.florida.cuba.miami.jpg" TargetMode="External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juventudrebelde.cu/UserFiles/Image/2006/agosto/fidel-castro/fidel-castro-4.jpg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5028840" y="96048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476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Do Now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ad the tips and tricks for analyzing a political cartoo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n, analyze the meaning and symbols of the political cartoon on your worksheet. Be as detailed as possibl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Rectangle 1026" descr=""/>
          <p:cNvPicPr/>
          <p:nvPr/>
        </p:nvPicPr>
        <p:blipFill>
          <a:blip r:embed="rId1"/>
          <a:stretch/>
        </p:blipFill>
        <p:spPr>
          <a:xfrm>
            <a:off x="225360" y="378000"/>
            <a:ext cx="8925120" cy="10969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028" descr="nikit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960480"/>
            <a:ext cx="5205240" cy="5592600"/>
          </a:xfrm>
          <a:prstGeom prst="rect">
            <a:avLst/>
          </a:prstGeom>
          <a:ln w="0">
            <a:noFill/>
          </a:ln>
        </p:spPr>
      </p:pic>
      <p:sp>
        <p:nvSpPr>
          <p:cNvPr id="380" name="TextBox 4"/>
          <p:cNvSpPr/>
          <p:nvPr/>
        </p:nvSpPr>
        <p:spPr>
          <a:xfrm>
            <a:off x="2568600" y="309600"/>
            <a:ext cx="185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TextBox 5"/>
          <p:cNvSpPr/>
          <p:nvPr/>
        </p:nvSpPr>
        <p:spPr>
          <a:xfrm>
            <a:off x="5607000" y="5532480"/>
            <a:ext cx="3308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What is th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main idea here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2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· President Kennedy announced that American warships would stop any Soviet ship carrying missile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1" name="Picture 3" descr="Armwrestling"/>
          <p:cNvPicPr/>
          <p:nvPr/>
        </p:nvPicPr>
        <p:blipFill>
          <a:blip r:embed="rId1"/>
          <a:srcRect l="2284" t="8038" r="8149" b="5741"/>
          <a:stretch/>
        </p:blipFill>
        <p:spPr>
          <a:xfrm>
            <a:off x="304920" y="925560"/>
            <a:ext cx="8683560" cy="59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2" descr="nyt1"/>
          <p:cNvPicPr/>
          <p:nvPr/>
        </p:nvPicPr>
        <p:blipFill>
          <a:blip r:embed="rId1"/>
          <a:srcRect l="5900" t="3781" r="0" b="27016"/>
          <a:stretch/>
        </p:blipFill>
        <p:spPr>
          <a:xfrm>
            <a:off x="1066680" y="228600"/>
            <a:ext cx="7778880" cy="4495680"/>
          </a:xfrm>
          <a:prstGeom prst="rect">
            <a:avLst/>
          </a:prstGeom>
          <a:ln w="0">
            <a:noFill/>
          </a:ln>
        </p:spPr>
      </p:pic>
      <p:sp>
        <p:nvSpPr>
          <p:cNvPr id="413" name="Text Box 3"/>
          <p:cNvSpPr/>
          <p:nvPr/>
        </p:nvSpPr>
        <p:spPr>
          <a:xfrm>
            <a:off x="0" y="50292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esult:  President Kennedy blockaded Cuba and forced the Soviets to remove the missiles. 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 Box 3"/>
          <p:cNvSpPr/>
          <p:nvPr/>
        </p:nvSpPr>
        <p:spPr>
          <a:xfrm>
            <a:off x="5257800" y="1752480"/>
            <a:ext cx="3886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viet Leader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ikita Khrushchev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5" name="Picture 4" descr="1101610908_400"/>
          <p:cNvPicPr/>
          <p:nvPr/>
        </p:nvPicPr>
        <p:blipFill>
          <a:blip r:embed="rId1"/>
          <a:stretch/>
        </p:blipFill>
        <p:spPr>
          <a:xfrm>
            <a:off x="0" y="6480"/>
            <a:ext cx="5200560" cy="685152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3" descr=""/>
          <p:cNvPicPr/>
          <p:nvPr/>
        </p:nvPicPr>
        <p:blipFill>
          <a:blip r:embed="rId2"/>
          <a:stretch/>
        </p:blipFill>
        <p:spPr>
          <a:xfrm>
            <a:off x="5522760" y="442800"/>
            <a:ext cx="3426120" cy="1005120"/>
          </a:xfrm>
          <a:prstGeom prst="rect">
            <a:avLst/>
          </a:prstGeom>
          <a:ln w="0">
            <a:noFill/>
          </a:ln>
        </p:spPr>
      </p:pic>
      <p:sp>
        <p:nvSpPr>
          <p:cNvPr id="417" name="TextBox 4"/>
          <p:cNvSpPr/>
          <p:nvPr/>
        </p:nvSpPr>
        <p:spPr>
          <a:xfrm>
            <a:off x="5743440" y="3336840"/>
            <a:ext cx="3205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Known For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His enthusiastic belief that Communism would triumph over capitalism!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2" descr="nikita"/>
          <p:cNvPicPr/>
          <p:nvPr/>
        </p:nvPicPr>
        <p:blipFill>
          <a:blip r:embed="rId1"/>
          <a:stretch/>
        </p:blipFill>
        <p:spPr>
          <a:xfrm>
            <a:off x="0" y="1440"/>
            <a:ext cx="4570560" cy="6856560"/>
          </a:xfrm>
          <a:prstGeom prst="rect">
            <a:avLst/>
          </a:prstGeom>
          <a:ln w="0">
            <a:noFill/>
          </a:ln>
        </p:spPr>
      </p:pic>
      <p:sp>
        <p:nvSpPr>
          <p:cNvPr id="419" name="Text Box 3"/>
          <p:cNvSpPr/>
          <p:nvPr/>
        </p:nvSpPr>
        <p:spPr>
          <a:xfrm>
            <a:off x="4572000" y="0"/>
            <a:ext cx="457200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"I found myself in the difficult position of having to decide on a course of action which would answer the American threat but which would also avoid war.  Any fool can start a war, and once he's done so, even the wisest of men are helpless to stop it-- especially if its a nuclear war.”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 Nikita Khrushchev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Box 1"/>
          <p:cNvSpPr/>
          <p:nvPr/>
        </p:nvSpPr>
        <p:spPr>
          <a:xfrm>
            <a:off x="944640" y="487440"/>
            <a:ext cx="758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BlairMdITC TT Medium"/>
              </a:rPr>
              <a:t>Perspectives Activity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1523880" y="2263680"/>
          <a:ext cx="6096240" cy="32767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27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Somebody Wanted to. . 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But. .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So. . 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762120" y="15238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o: 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Cuba, Soviet Union, United Stat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Rectangle 2" descr=""/>
          <p:cNvPicPr/>
          <p:nvPr/>
        </p:nvPicPr>
        <p:blipFill>
          <a:blip r:embed="rId1"/>
          <a:stretch/>
        </p:blipFill>
        <p:spPr>
          <a:xfrm>
            <a:off x="1139760" y="133200"/>
            <a:ext cx="6943680" cy="15303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map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8520" y="2189160"/>
            <a:ext cx="5867280" cy="44766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4" descr=""/>
          <p:cNvPicPr/>
          <p:nvPr/>
        </p:nvPicPr>
        <p:blipFill>
          <a:blip r:embed="rId4"/>
          <a:stretch/>
        </p:blipFill>
        <p:spPr>
          <a:xfrm>
            <a:off x="6740640" y="3459240"/>
            <a:ext cx="1904760" cy="2857320"/>
          </a:xfrm>
          <a:prstGeom prst="rect">
            <a:avLst/>
          </a:prstGeom>
          <a:ln w="0">
            <a:noFill/>
          </a:ln>
        </p:spPr>
      </p:pic>
      <p:sp>
        <p:nvSpPr>
          <p:cNvPr id="386" name="TextBox 5"/>
          <p:cNvSpPr/>
          <p:nvPr/>
        </p:nvSpPr>
        <p:spPr>
          <a:xfrm>
            <a:off x="6969240" y="261468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JUST KEEP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SWIMMING!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2"/>
          <p:cNvSpPr/>
          <p:nvPr/>
        </p:nvSpPr>
        <p:spPr>
          <a:xfrm>
            <a:off x="0" y="0"/>
            <a:ext cx="937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59, a young Fidel Castro led a communist revolution in Cuba, causing thousands of Cubans to flee to the United States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Picture 3" descr="fidel-castro-4">
            <a:hlinkClick r:id="rId1"/>
          </p:cNvPr>
          <p:cNvPicPr/>
          <p:nvPr/>
        </p:nvPicPr>
        <p:blipFill>
          <a:blip r:embed="rId2"/>
          <a:srcRect l="13233" t="2721" r="14682" b="10400"/>
          <a:stretch/>
        </p:blipFill>
        <p:spPr>
          <a:xfrm>
            <a:off x="5410080" y="914400"/>
            <a:ext cx="3025800" cy="548496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4" descr="young_castro_2"/>
          <p:cNvPicPr/>
          <p:nvPr/>
        </p:nvPicPr>
        <p:blipFill>
          <a:blip r:embed="rId3"/>
          <a:stretch/>
        </p:blipFill>
        <p:spPr>
          <a:xfrm>
            <a:off x="304920" y="914400"/>
            <a:ext cx="4122720" cy="5486400"/>
          </a:xfrm>
          <a:prstGeom prst="rect">
            <a:avLst/>
          </a:prstGeom>
          <a:ln w="0">
            <a:noFill/>
          </a:ln>
        </p:spPr>
      </p:pic>
      <p:sp>
        <p:nvSpPr>
          <p:cNvPr id="390" name="Text Box 5"/>
          <p:cNvSpPr/>
          <p:nvPr/>
        </p:nvSpPr>
        <p:spPr>
          <a:xfrm>
            <a:off x="304920" y="633888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idel Castro, 1950’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Text Box 6"/>
          <p:cNvSpPr/>
          <p:nvPr/>
        </p:nvSpPr>
        <p:spPr>
          <a:xfrm>
            <a:off x="5334120" y="633888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idel Castro, 2006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2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ay of Pigs Invasi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Text Box 3"/>
          <p:cNvSpPr/>
          <p:nvPr/>
        </p:nvSpPr>
        <p:spPr>
          <a:xfrm>
            <a:off x="0" y="7621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· The U.S. became worried as Cuba received increased amounts of aid from the Soviet Union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Text Box 4"/>
          <p:cNvSpPr/>
          <p:nvPr/>
        </p:nvSpPr>
        <p:spPr>
          <a:xfrm>
            <a:off x="0" y="190512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· In 1961, President John F. Kennedy approved of a plan by the CIA to overthrow Castro’s government with the help of Cuba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xil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Picture 5" descr="Image:BayofPigs.jpg"/>
          <p:cNvPicPr/>
          <p:nvPr/>
        </p:nvPicPr>
        <p:blipFill>
          <a:blip r:embed="rId1"/>
          <a:stretch/>
        </p:blipFill>
        <p:spPr>
          <a:xfrm>
            <a:off x="0" y="3289320"/>
            <a:ext cx="914076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1" descr=""/>
          <p:cNvPicPr/>
          <p:nvPr/>
        </p:nvPicPr>
        <p:blipFill>
          <a:blip r:embed="rId1"/>
          <a:stretch/>
        </p:blipFill>
        <p:spPr>
          <a:xfrm>
            <a:off x="1638360" y="1447920"/>
            <a:ext cx="6367320" cy="4503600"/>
          </a:xfrm>
          <a:prstGeom prst="rect">
            <a:avLst/>
          </a:prstGeom>
          <a:ln w="0">
            <a:noFill/>
          </a:ln>
        </p:spPr>
      </p:pic>
      <p:sp>
        <p:nvSpPr>
          <p:cNvPr id="397" name="TextBox 2"/>
          <p:cNvSpPr/>
          <p:nvPr/>
        </p:nvSpPr>
        <p:spPr>
          <a:xfrm>
            <a:off x="-1140480" y="612720"/>
            <a:ext cx="1206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pyrus Condensed"/>
              </a:rPr>
              <a:t>Why do you feel Cuban exiles were chosen to assist in this mission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 Box 2"/>
          <p:cNvSpPr/>
          <p:nvPr/>
        </p:nvSpPr>
        <p:spPr>
          <a:xfrm>
            <a:off x="0" y="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· The exiles landed at the Bay of Pigs in Southern Cuba where they were easily defeated by Cuban forces, strengthening Fidel Castro and embarrassing the United States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Picture 3" descr="castro-1"/>
          <p:cNvPicPr/>
          <p:nvPr/>
        </p:nvPicPr>
        <p:blipFill>
          <a:blip r:embed="rId1"/>
          <a:stretch/>
        </p:blipFill>
        <p:spPr>
          <a:xfrm>
            <a:off x="0" y="1374840"/>
            <a:ext cx="6664320" cy="5483160"/>
          </a:xfrm>
          <a:prstGeom prst="rect">
            <a:avLst/>
          </a:prstGeom>
          <a:ln w="0">
            <a:noFill/>
          </a:ln>
        </p:spPr>
      </p:pic>
      <p:sp>
        <p:nvSpPr>
          <p:cNvPr id="400" name="Text Box 4"/>
          <p:cNvSpPr/>
          <p:nvPr/>
        </p:nvSpPr>
        <p:spPr>
          <a:xfrm>
            <a:off x="6629400" y="2068560"/>
            <a:ext cx="2514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idel Castro, parading through the streets of Havana after his victory against Cuban expatriates in the Bay of Pigs invasion. (1961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Box 1"/>
          <p:cNvSpPr/>
          <p:nvPr/>
        </p:nvSpPr>
        <p:spPr>
          <a:xfrm>
            <a:off x="222120" y="871560"/>
            <a:ext cx="8715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ヒラギノ角ゴ Pro W3"/>
              </a:rPr>
              <a:t>Two of the ships were sunk, including the ship that was carrying most of the supplies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ヒラギノ角ゴ Pro W3"/>
              </a:rPr>
              <a:t>Two of the planes that were attempting to give                air-cover were also shot down. Within 72hours all the invading troops had been killed, wounded or had surrendered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TextBox 2"/>
          <p:cNvSpPr/>
          <p:nvPr/>
        </p:nvSpPr>
        <p:spPr>
          <a:xfrm>
            <a:off x="1521000" y="495360"/>
            <a:ext cx="645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ple Chancery"/>
              </a:rPr>
              <a:t>Some 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NOT SO GREAT </a:t>
            </a:r>
            <a:r>
              <a:rPr b="0" lang="en-US" sz="2800" spc="-1" strike="noStrike">
                <a:solidFill>
                  <a:srgbClr val="000000"/>
                </a:solidFill>
                <a:latin typeface="Apple Chancery"/>
              </a:rPr>
              <a:t>Results. . . 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Picture 3" descr=""/>
          <p:cNvPicPr/>
          <p:nvPr/>
        </p:nvPicPr>
        <p:blipFill>
          <a:blip r:embed="rId1"/>
          <a:stretch/>
        </p:blipFill>
        <p:spPr>
          <a:xfrm>
            <a:off x="4667400" y="3917880"/>
            <a:ext cx="3809880" cy="2793960"/>
          </a:xfrm>
          <a:prstGeom prst="rect">
            <a:avLst/>
          </a:prstGeom>
          <a:ln w="0">
            <a:noFill/>
          </a:ln>
        </p:spPr>
      </p:pic>
      <p:sp>
        <p:nvSpPr>
          <p:cNvPr id="404" name="TextBox 5"/>
          <p:cNvSpPr/>
          <p:nvPr/>
        </p:nvSpPr>
        <p:spPr>
          <a:xfrm>
            <a:off x="743040" y="4344840"/>
            <a:ext cx="32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Lucida Sans Unicode"/>
              </a:rPr>
              <a:t>Fidel watching the Bay of Pigs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Lucida Sans Unicode"/>
              </a:rPr>
              <a:t>From a tank near Playa Grion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3"/>
          <p:cNvSpPr/>
          <p:nvPr/>
        </p:nvSpPr>
        <p:spPr>
          <a:xfrm>
            <a:off x="0" y="450360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mericans, two of whom were eventually executed, are arrested in April 1961. They were accused by the Cuban government of smuggling guns to anti-Communist rebels a few days before the Bay of Pigs invasion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Picture 4" descr="eeis_01_img0095%5B1%5D"/>
          <p:cNvPicPr/>
          <p:nvPr/>
        </p:nvPicPr>
        <p:blipFill>
          <a:blip r:embed="rId1"/>
          <a:stretch/>
        </p:blipFill>
        <p:spPr>
          <a:xfrm>
            <a:off x="1143000" y="179280"/>
            <a:ext cx="694692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2"/>
          <p:cNvSpPr/>
          <p:nvPr/>
        </p:nvSpPr>
        <p:spPr>
          <a:xfrm>
            <a:off x="5181480" y="0"/>
            <a:ext cx="396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Cuban            Missile Crisi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Text Box 3"/>
          <p:cNvSpPr/>
          <p:nvPr/>
        </p:nvSpPr>
        <p:spPr>
          <a:xfrm>
            <a:off x="5181480" y="1219320"/>
            <a:ext cx="3962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oviet Union began to build missile bases in Cuba, worrying Americans that we were vulnerable to attack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9" name="Picture 4" descr="cuban_missile_crisis"/>
          <p:cNvPicPr/>
          <p:nvPr/>
        </p:nvPicPr>
        <p:blipFill>
          <a:blip r:embed="rId1"/>
          <a:stretch/>
        </p:blipFill>
        <p:spPr>
          <a:xfrm>
            <a:off x="0" y="0"/>
            <a:ext cx="513720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9T12:03:42Z</dcterms:created>
  <dc:creator>NYCDOE</dc:creator>
  <dc:description/>
  <dc:language>en-US</dc:language>
  <cp:lastModifiedBy>NYCDOE</cp:lastModifiedBy>
  <dcterms:modified xsi:type="dcterms:W3CDTF">2012-04-19T12:18:25Z</dcterms:modified>
  <cp:revision>3</cp:revision>
  <dc:subject/>
  <dc:title>Aim (L51):  How did the Cuban Missile Crisis increase Cold War tensions? </dc:title>
</cp:coreProperties>
</file>